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4EBB-94A4-4615-B7A5-C36510DC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A443-C6AA-4AAE-BC89-9BA11061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844D-F7FC-4DC8-92FE-58A3225C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396B-1C58-44D7-A342-64FE6496C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04A9-CF24-48AC-837C-8EEC9EF9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6ABF-B3AF-4559-AE0E-C40DAB52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1943-4472-4B4F-9C3B-C6519754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2CC3-05A7-4656-9E06-42C54AB5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764F-E87A-45E4-90F7-FE626497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B661-83D7-4428-92F3-17E9434C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302D-6FDC-4F44-A490-F4565F66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9196-728D-4BA0-A0E5-87DBB42D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E6D6-010C-4EF9-B81D-8FE869E50F1B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04 Keď slniečka lúč posledn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slniečka lúč posledný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ž v tmách svoj stráca j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y vítame deň sobotn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n odpočinku čas.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 v deň ten bremä starostí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práce zložiť v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n mannu hojnej mil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 rúk Pánových vziať smie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tie vzácne chvíle sobotné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nie Božej lásky hlas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Písma zvesti radostné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dnes je spásy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zlomil hriechu okov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l žitiu nový sm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a mocou svojou obnoví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našej zemi mier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_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6-11-23T17:20:08Z</dcterms:modified>
  <cp:revision>11</cp:revision>
  <dc:subject/>
  <dc:title>Je veľký náš Pán, on slávy je Kráľ Nech do všetkých strán  spev vrúcnych znie chvál.</dc:title>
</cp:coreProperties>
</file>